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E1B-8D90-4A17-91B2-1A16BC08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230-41AA-4498-B79C-8B341114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22B-EAFA-4698-8BC0-C5259559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F48-2989-4F3B-AEBE-2DAD063A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E1CD-0E9A-4E28-9CEF-7CC8BCAD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0EEF-8B1C-401E-9402-DA12AA9F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1C80-A726-405F-8A5E-E1A3444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6C07-F3AD-48F1-8011-FF8D9C1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E308-81D2-4FD5-A883-88251606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B2F-06FC-432E-943C-AD5FF18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333-4198-43A8-8BA0-3B80726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200-6315-44A0-995E-E8949A24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CA90-8BA9-489F-994C-49A01AE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6BB-7D5A-4E12-9E7B-607A5B87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893-3996-43E4-81F6-62DBB16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FC3F-0B61-412E-BF96-7DD8358C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BCC1-CA02-4582-82B3-6D46D5F7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47F-8DE9-41B3-8048-008C955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D9C-BF11-4A3D-9413-6F87D03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B92-3A81-476C-ADAC-5D44C270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D39-FCFC-4906-9EA3-A0499A4C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D31-65BF-41C4-AA38-AE4C196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25D-EB99-49C6-A78E-14E22C9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885-73A5-46D2-89FA-0F11004C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A1C-9A2D-4D68-B63D-B647784D60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1C6B-D66F-47D3-B432-D9DC9AECF49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citing Englis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pt. 2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and out book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ad prefa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 to library to do assign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l 6 companies boards of directors met in the studioes of the hoover building at the corner of hwy. thirty-six and state st. on feb. 5 199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ert:Activity:: dead: __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wboat:barge::locomotive:_______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 Ke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l six companies’ boards of directors met in the studios of the Hoover Building at the corner of highway 36 and State Street on February 5, 199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8:15:51Z</dcterms:created>
  <dc:creator>student</dc:creator>
  <dc:description/>
  <dc:language>en-US</dc:language>
  <cp:lastModifiedBy>Angie McCall</cp:lastModifiedBy>
  <dcterms:modified xsi:type="dcterms:W3CDTF">2011-09-21T21:32:25Z</dcterms:modified>
  <cp:revision>3</cp:revision>
  <dc:subject/>
  <dc:title>Exciting English</dc:title>
</cp:coreProperties>
</file>